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png" ContentType="image/png"/>
  <Override PartName="/ppt/media/image7.jpeg" ContentType="image/jpeg"/>
  <Override PartName="/ppt/media/image27.png" ContentType="image/png"/>
  <Override PartName="/ppt/media/image23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5.jpeg" ContentType="image/jpeg"/>
  <Override PartName="/ppt/media/image35.png" ContentType="image/png"/>
  <Override PartName="/ppt/media/image10.png" ContentType="image/png"/>
  <Override PartName="/ppt/media/image6.jpeg" ContentType="image/jpeg"/>
  <Override PartName="/ppt/media/image32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36.png" ContentType="image/png"/>
  <Override PartName="/ppt/media/image37.png" ContentType="image/png"/>
  <Override PartName="/ppt/media/image4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18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25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6248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09320" y="4130640"/>
            <a:ext cx="6248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304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11520" y="1981080"/>
            <a:ext cx="304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09320" y="4130640"/>
            <a:ext cx="304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11520" y="4130640"/>
            <a:ext cx="304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201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21800" y="1981080"/>
            <a:ext cx="201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4640" y="1981080"/>
            <a:ext cx="201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09320" y="4130640"/>
            <a:ext cx="201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21800" y="4130640"/>
            <a:ext cx="201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4640" y="4130640"/>
            <a:ext cx="201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093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304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11520" y="1981080"/>
            <a:ext cx="304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33720" y="60912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304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11520" y="1981080"/>
            <a:ext cx="304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09320" y="4130640"/>
            <a:ext cx="304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304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11520" y="1981080"/>
            <a:ext cx="304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11520" y="4130640"/>
            <a:ext cx="304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304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1520" y="1981080"/>
            <a:ext cx="304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09320" y="4130640"/>
            <a:ext cx="6248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afa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093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38360" y="6188040"/>
            <a:ext cx="8405640" cy="6699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82720" cy="685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" name=""/>
          <p:cNvSpPr/>
          <p:nvPr/>
        </p:nvSpPr>
        <p:spPr>
          <a:xfrm>
            <a:off x="7808040" y="6613560"/>
            <a:ext cx="135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333cc"/>
                </a:solidFill>
                <a:latin typeface="Comic Sans MS"/>
              </a:rPr>
              <a:t>www.spice-rtn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3680" y="6611760"/>
            <a:ext cx="33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333cc"/>
                </a:solidFill>
                <a:latin typeface="Comic Sans MS"/>
              </a:rPr>
              <a:t>Mid-Term Review Meeting, February 13-14, Tutz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afa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69880" y="162000"/>
            <a:ext cx="687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eismic wave </a:t>
            </a:r>
            <a:r>
              <a:rPr b="1" lang="de-DE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ropagation and </a:t>
            </a:r>
            <a:r>
              <a:rPr b="1" lang="de-DE" sz="24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maging in </a:t>
            </a:r>
            <a:r>
              <a:rPr b="1" lang="de-DE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omplex media: a </a:t>
            </a:r>
            <a:r>
              <a:rPr b="1" lang="de-DE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uropean network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41280" y="1384200"/>
            <a:ext cx="7359840" cy="4848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Digital Library and Numerical Methods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Involved SPICE Institutions and Researc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ETHZ Zürich, Switzerland (Giardini, Ampue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IPG Paris, France (Vilotte, Festa, Mercerat, Delavau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LMU Munich, Germany (Igel, Stupazzini, de la Pu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OGS Trieste, Italy (Seriani, Danece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Comenius University, Bratislava, Slovak Republic (Moczo,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Kristek, Gal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External collabo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CIG (Computational Infrastructures in Geodynami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niversity of Trento, Italy (Martin Käs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Orpheus (Observatories and Research Facilities for EUropean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Seismolog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NAM, Mexico (Francisco Sanchez-Ses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afa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69880" y="162000"/>
            <a:ext cx="687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eismic wave </a:t>
            </a:r>
            <a:r>
              <a:rPr b="1" lang="de-DE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ropagation and </a:t>
            </a:r>
            <a:r>
              <a:rPr b="1" lang="de-DE" sz="24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maging in </a:t>
            </a:r>
            <a:r>
              <a:rPr b="1" lang="de-DE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omplex media: a </a:t>
            </a:r>
            <a:r>
              <a:rPr b="1" lang="de-DE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uropean network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41280" y="1658880"/>
            <a:ext cx="7359840" cy="4343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MARCO STUPAZZI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Experienced Stage Researcher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Host Institution: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LMU Mun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Place of Origin: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 Milan, It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Appointment Time: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 May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Project: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Computational Seismology, Spectral Element Method, Visco Plasticity, Soil-Structure Inter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Task Groups: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 Numerical Methods, Digital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Cooperation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: IPG Paris, Trento University, Milan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stupa1" descr=""/>
          <p:cNvPicPr/>
          <p:nvPr/>
        </p:nvPicPr>
        <p:blipFill>
          <a:blip r:embed="rId1"/>
          <a:stretch/>
        </p:blipFill>
        <p:spPr>
          <a:xfrm>
            <a:off x="6948360" y="1735200"/>
            <a:ext cx="15336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afa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8640" y="-24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omic Sans MS"/>
              </a:rPr>
              <a:t>Goal: soil structures interaction analy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Source_path_site" descr=""/>
          <p:cNvPicPr/>
          <p:nvPr/>
        </p:nvPicPr>
        <p:blipFill>
          <a:blip r:embed="rId1"/>
          <a:stretch/>
        </p:blipFill>
        <p:spPr>
          <a:xfrm>
            <a:off x="1479600" y="612720"/>
            <a:ext cx="7010280" cy="4152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 flipV="1">
            <a:off x="2958840" y="3530160"/>
            <a:ext cx="399960" cy="577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494000" y="2813040"/>
            <a:ext cx="7410240" cy="3443400"/>
            <a:chOff x="1494000" y="2813040"/>
            <a:chExt cx="7410240" cy="3443400"/>
          </a:xfrm>
        </p:grpSpPr>
        <p:grpSp>
          <p:nvGrpSpPr>
            <p:cNvPr id="106" name=""/>
            <p:cNvGrpSpPr/>
            <p:nvPr/>
          </p:nvGrpSpPr>
          <p:grpSpPr>
            <a:xfrm>
              <a:off x="1494000" y="2813040"/>
              <a:ext cx="7410240" cy="3443400"/>
              <a:chOff x="1494000" y="2813040"/>
              <a:chExt cx="7410240" cy="344340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1494000" y="2855880"/>
                <a:ext cx="7410240" cy="3400560"/>
                <a:chOff x="1494000" y="2855880"/>
                <a:chExt cx="7410240" cy="3400560"/>
              </a:xfrm>
            </p:grpSpPr>
            <p:pic>
              <p:nvPicPr>
                <p:cNvPr id="108" name="normalfaul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494000" y="4883040"/>
                  <a:ext cx="2395440" cy="137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reversefault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965400" y="4975200"/>
                  <a:ext cx="2322720" cy="1257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strikeslip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62640" y="4900680"/>
                  <a:ext cx="2541600" cy="1253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" name=""/>
                <p:cNvSpPr/>
                <p:nvPr/>
              </p:nvSpPr>
              <p:spPr>
                <a:xfrm>
                  <a:off x="2104920" y="2855880"/>
                  <a:ext cx="863640" cy="37620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" name=""/>
              <p:cNvSpPr/>
              <p:nvPr/>
            </p:nvSpPr>
            <p:spPr>
              <a:xfrm>
                <a:off x="1634760" y="2813040"/>
                <a:ext cx="42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r>
                  <a:rPr b="1" lang="de-DE" sz="1800" spc="-1" strike="noStrike" baseline="30000">
                    <a:solidFill>
                      <a:srgbClr val="ff0000"/>
                    </a:solidFill>
                    <a:latin typeface="Arial"/>
                  </a:rPr>
                  <a:t>s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 flipH="1" flipV="1">
              <a:off x="2654280" y="3225600"/>
              <a:ext cx="1022400" cy="1415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70280" y="3625920"/>
              <a:ext cx="420480" cy="56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2949480" y="3522240"/>
              <a:ext cx="409680" cy="585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056040" y="2128680"/>
            <a:ext cx="3761640" cy="2109600"/>
            <a:chOff x="3056040" y="2128680"/>
            <a:chExt cx="3761640" cy="2109600"/>
          </a:xfrm>
        </p:grpSpPr>
        <p:grpSp>
          <p:nvGrpSpPr>
            <p:cNvPr id="117" name=""/>
            <p:cNvGrpSpPr/>
            <p:nvPr/>
          </p:nvGrpSpPr>
          <p:grpSpPr>
            <a:xfrm>
              <a:off x="4724280" y="3701880"/>
              <a:ext cx="2093400" cy="419400"/>
              <a:chOff x="4724280" y="3701880"/>
              <a:chExt cx="2093400" cy="419400"/>
            </a:xfrm>
          </p:grpSpPr>
          <p:sp>
            <p:nvSpPr>
              <p:cNvPr id="118" name=""/>
              <p:cNvSpPr/>
              <p:nvPr/>
            </p:nvSpPr>
            <p:spPr>
              <a:xfrm>
                <a:off x="4724280" y="3733920"/>
                <a:ext cx="1578240" cy="3873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348960" y="3701880"/>
                <a:ext cx="46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de-DE" sz="1800" spc="-1" strike="noStrike" baseline="30000">
                    <a:solidFill>
                      <a:srgbClr val="ff0000"/>
                    </a:solidFill>
                    <a:latin typeface="Arial"/>
                  </a:rPr>
                  <a:t>n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flipV="1">
              <a:off x="3056040" y="2128680"/>
              <a:ext cx="1815840" cy="135432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3346560" y="2643120"/>
              <a:ext cx="1841400" cy="119232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511440" y="3071520"/>
              <a:ext cx="2517840" cy="116676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324320" y="733320"/>
            <a:ext cx="4038480" cy="1928880"/>
            <a:chOff x="4324320" y="733320"/>
            <a:chExt cx="4038480" cy="1928880"/>
          </a:xfrm>
        </p:grpSpPr>
        <p:sp>
          <p:nvSpPr>
            <p:cNvPr id="124" name=""/>
            <p:cNvSpPr/>
            <p:nvPr/>
          </p:nvSpPr>
          <p:spPr>
            <a:xfrm>
              <a:off x="4923000" y="763560"/>
              <a:ext cx="1214280" cy="32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52120" y="733320"/>
              <a:ext cx="4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de-DE" sz="1800" spc="-1" strike="noStrike" baseline="30000">
                  <a:solidFill>
                    <a:srgbClr val="ff0000"/>
                  </a:solidFill>
                  <a:latin typeface="Arial"/>
                </a:rPr>
                <a:t>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24320" y="1690560"/>
              <a:ext cx="4014720" cy="971640"/>
            </a:xfrm>
            <a:custGeom>
              <a:avLst/>
              <a:gdLst/>
              <a:ahLst/>
              <a:rect l="l" t="t" r="r" b="b"/>
              <a:pathLst>
                <a:path w="2529" h="612">
                  <a:moveTo>
                    <a:pt x="0" y="0"/>
                  </a:moveTo>
                  <a:cubicBezTo>
                    <a:pt x="39" y="17"/>
                    <a:pt x="78" y="35"/>
                    <a:pt x="105" y="51"/>
                  </a:cubicBezTo>
                  <a:cubicBezTo>
                    <a:pt x="132" y="67"/>
                    <a:pt x="144" y="81"/>
                    <a:pt x="162" y="93"/>
                  </a:cubicBezTo>
                  <a:cubicBezTo>
                    <a:pt x="180" y="105"/>
                    <a:pt x="181" y="99"/>
                    <a:pt x="210" y="120"/>
                  </a:cubicBezTo>
                  <a:cubicBezTo>
                    <a:pt x="239" y="141"/>
                    <a:pt x="288" y="190"/>
                    <a:pt x="339" y="222"/>
                  </a:cubicBezTo>
                  <a:cubicBezTo>
                    <a:pt x="390" y="254"/>
                    <a:pt x="476" y="293"/>
                    <a:pt x="516" y="315"/>
                  </a:cubicBezTo>
                  <a:cubicBezTo>
                    <a:pt x="556" y="337"/>
                    <a:pt x="551" y="342"/>
                    <a:pt x="582" y="357"/>
                  </a:cubicBezTo>
                  <a:cubicBezTo>
                    <a:pt x="613" y="372"/>
                    <a:pt x="649" y="390"/>
                    <a:pt x="699" y="405"/>
                  </a:cubicBezTo>
                  <a:cubicBezTo>
                    <a:pt x="749" y="420"/>
                    <a:pt x="830" y="431"/>
                    <a:pt x="882" y="447"/>
                  </a:cubicBezTo>
                  <a:cubicBezTo>
                    <a:pt x="934" y="463"/>
                    <a:pt x="976" y="485"/>
                    <a:pt x="1011" y="501"/>
                  </a:cubicBezTo>
                  <a:cubicBezTo>
                    <a:pt x="1046" y="517"/>
                    <a:pt x="1053" y="531"/>
                    <a:pt x="1092" y="540"/>
                  </a:cubicBezTo>
                  <a:cubicBezTo>
                    <a:pt x="1131" y="549"/>
                    <a:pt x="1167" y="555"/>
                    <a:pt x="1245" y="558"/>
                  </a:cubicBezTo>
                  <a:cubicBezTo>
                    <a:pt x="1323" y="561"/>
                    <a:pt x="1490" y="558"/>
                    <a:pt x="1560" y="561"/>
                  </a:cubicBezTo>
                  <a:cubicBezTo>
                    <a:pt x="1630" y="564"/>
                    <a:pt x="1614" y="575"/>
                    <a:pt x="1668" y="579"/>
                  </a:cubicBezTo>
                  <a:cubicBezTo>
                    <a:pt x="1722" y="583"/>
                    <a:pt x="1821" y="579"/>
                    <a:pt x="1884" y="582"/>
                  </a:cubicBezTo>
                  <a:cubicBezTo>
                    <a:pt x="1947" y="585"/>
                    <a:pt x="1939" y="612"/>
                    <a:pt x="2046" y="600"/>
                  </a:cubicBezTo>
                  <a:cubicBezTo>
                    <a:pt x="2153" y="588"/>
                    <a:pt x="2442" y="537"/>
                    <a:pt x="2529" y="51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24320" y="1533600"/>
              <a:ext cx="4038480" cy="309600"/>
            </a:xfrm>
            <a:custGeom>
              <a:avLst/>
              <a:gdLst/>
              <a:ahLst/>
              <a:rect l="l" t="t" r="r" b="b"/>
              <a:pathLst>
                <a:path w="2544" h="195">
                  <a:moveTo>
                    <a:pt x="0" y="99"/>
                  </a:moveTo>
                  <a:cubicBezTo>
                    <a:pt x="34" y="107"/>
                    <a:pt x="69" y="116"/>
                    <a:pt x="129" y="117"/>
                  </a:cubicBezTo>
                  <a:cubicBezTo>
                    <a:pt x="189" y="118"/>
                    <a:pt x="294" y="108"/>
                    <a:pt x="363" y="108"/>
                  </a:cubicBezTo>
                  <a:cubicBezTo>
                    <a:pt x="432" y="108"/>
                    <a:pt x="494" y="112"/>
                    <a:pt x="546" y="117"/>
                  </a:cubicBezTo>
                  <a:cubicBezTo>
                    <a:pt x="598" y="122"/>
                    <a:pt x="611" y="134"/>
                    <a:pt x="675" y="138"/>
                  </a:cubicBezTo>
                  <a:cubicBezTo>
                    <a:pt x="739" y="142"/>
                    <a:pt x="874" y="141"/>
                    <a:pt x="930" y="144"/>
                  </a:cubicBezTo>
                  <a:cubicBezTo>
                    <a:pt x="986" y="147"/>
                    <a:pt x="974" y="149"/>
                    <a:pt x="1011" y="156"/>
                  </a:cubicBezTo>
                  <a:cubicBezTo>
                    <a:pt x="1048" y="163"/>
                    <a:pt x="1102" y="183"/>
                    <a:pt x="1155" y="189"/>
                  </a:cubicBezTo>
                  <a:cubicBezTo>
                    <a:pt x="1208" y="195"/>
                    <a:pt x="1257" y="192"/>
                    <a:pt x="1329" y="192"/>
                  </a:cubicBezTo>
                  <a:cubicBezTo>
                    <a:pt x="1401" y="192"/>
                    <a:pt x="1509" y="191"/>
                    <a:pt x="1590" y="189"/>
                  </a:cubicBezTo>
                  <a:cubicBezTo>
                    <a:pt x="1671" y="187"/>
                    <a:pt x="1744" y="192"/>
                    <a:pt x="1815" y="180"/>
                  </a:cubicBezTo>
                  <a:cubicBezTo>
                    <a:pt x="1886" y="168"/>
                    <a:pt x="1954" y="132"/>
                    <a:pt x="2016" y="114"/>
                  </a:cubicBezTo>
                  <a:cubicBezTo>
                    <a:pt x="2078" y="96"/>
                    <a:pt x="2123" y="88"/>
                    <a:pt x="2184" y="72"/>
                  </a:cubicBezTo>
                  <a:cubicBezTo>
                    <a:pt x="2245" y="56"/>
                    <a:pt x="2322" y="30"/>
                    <a:pt x="2382" y="18"/>
                  </a:cubicBezTo>
                  <a:cubicBezTo>
                    <a:pt x="2442" y="6"/>
                    <a:pt x="2493" y="3"/>
                    <a:pt x="2544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827600" y="1114560"/>
            <a:ext cx="3699000" cy="5187960"/>
            <a:chOff x="4827600" y="1114560"/>
            <a:chExt cx="3699000" cy="5187960"/>
          </a:xfrm>
        </p:grpSpPr>
        <p:pic>
          <p:nvPicPr>
            <p:cNvPr id="129" name="Anchschool64" descr=""/>
            <p:cNvPicPr/>
            <p:nvPr/>
          </p:nvPicPr>
          <p:blipFill>
            <a:blip r:embed="rId5"/>
            <a:stretch/>
          </p:blipFill>
          <p:spPr>
            <a:xfrm>
              <a:off x="4827600" y="3778200"/>
              <a:ext cx="3699000" cy="2524320"/>
            </a:xfrm>
            <a:prstGeom prst="rect">
              <a:avLst/>
            </a:prstGeom>
            <a:ln w="9360">
              <a:solidFill>
                <a:srgbClr val="3333cc"/>
              </a:solidFill>
              <a:miter/>
            </a:ln>
          </p:spPr>
        </p:pic>
        <p:sp>
          <p:nvSpPr>
            <p:cNvPr id="130" name=""/>
            <p:cNvSpPr/>
            <p:nvPr/>
          </p:nvSpPr>
          <p:spPr>
            <a:xfrm>
              <a:off x="5923080" y="3389400"/>
              <a:ext cx="137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Subsid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99200" y="1114560"/>
              <a:ext cx="789120" cy="21276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788000" y="1128600"/>
            <a:ext cx="3740040" cy="5167440"/>
            <a:chOff x="4788000" y="1128600"/>
            <a:chExt cx="3740040" cy="5167440"/>
          </a:xfrm>
        </p:grpSpPr>
        <p:sp>
          <p:nvSpPr>
            <p:cNvPr id="133" name=""/>
            <p:cNvSpPr/>
            <p:nvPr/>
          </p:nvSpPr>
          <p:spPr>
            <a:xfrm>
              <a:off x="6966000" y="1128600"/>
              <a:ext cx="788760" cy="21276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4788000" y="3376440"/>
              <a:ext cx="3740040" cy="2919600"/>
              <a:chOff x="4788000" y="3376440"/>
              <a:chExt cx="3740040" cy="2919600"/>
            </a:xfrm>
          </p:grpSpPr>
          <p:pic>
            <p:nvPicPr>
              <p:cNvPr id="135" name="liquefaction" descr=""/>
              <p:cNvPicPr/>
              <p:nvPr/>
            </p:nvPicPr>
            <p:blipFill>
              <a:blip r:embed="rId6"/>
              <a:stretch/>
            </p:blipFill>
            <p:spPr>
              <a:xfrm>
                <a:off x="4788000" y="3772080"/>
                <a:ext cx="3740040" cy="2523960"/>
              </a:xfrm>
              <a:prstGeom prst="rect">
                <a:avLst/>
              </a:prstGeom>
              <a:ln w="9360">
                <a:solidFill>
                  <a:srgbClr val="3333cc"/>
                </a:solidFill>
                <a:miter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5923080" y="3376440"/>
                <a:ext cx="1409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3333cc"/>
                    </a:solidFill>
                    <a:latin typeface="Arial"/>
                  </a:rPr>
                  <a:t>Liquefac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4782960" y="1128600"/>
            <a:ext cx="3745080" cy="5159520"/>
            <a:chOff x="4782960" y="1128600"/>
            <a:chExt cx="3745080" cy="5159520"/>
          </a:xfrm>
        </p:grpSpPr>
        <p:sp>
          <p:nvSpPr>
            <p:cNvPr id="138" name=""/>
            <p:cNvSpPr/>
            <p:nvPr/>
          </p:nvSpPr>
          <p:spPr>
            <a:xfrm>
              <a:off x="7620120" y="1128600"/>
              <a:ext cx="788760" cy="21276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4782960" y="3365640"/>
              <a:ext cx="3745080" cy="2922480"/>
              <a:chOff x="4782960" y="3365640"/>
              <a:chExt cx="3745080" cy="2922480"/>
            </a:xfrm>
          </p:grpSpPr>
          <p:pic>
            <p:nvPicPr>
              <p:cNvPr id="140" name="eroview1" descr=""/>
              <p:cNvPicPr/>
              <p:nvPr/>
            </p:nvPicPr>
            <p:blipFill>
              <a:blip r:embed="rId7"/>
              <a:stretch/>
            </p:blipFill>
            <p:spPr>
              <a:xfrm>
                <a:off x="4782960" y="3754440"/>
                <a:ext cx="3745080" cy="2533680"/>
              </a:xfrm>
              <a:prstGeom prst="rect">
                <a:avLst/>
              </a:prstGeom>
              <a:ln w="9360">
                <a:solidFill>
                  <a:srgbClr val="3333cc"/>
                </a:solidFill>
                <a:miter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5999400" y="3365640"/>
                <a:ext cx="1269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3333cc"/>
                    </a:solidFill>
                    <a:latin typeface="Arial"/>
                  </a:rPr>
                  <a:t>Landslid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afa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16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omic Sans MS"/>
              </a:rPr>
              <a:t>Model crea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Italy" descr=""/>
          <p:cNvPicPr/>
          <p:nvPr/>
        </p:nvPicPr>
        <p:blipFill>
          <a:blip r:embed="rId1"/>
          <a:stretch/>
        </p:blipFill>
        <p:spPr>
          <a:xfrm>
            <a:off x="1757520" y="657360"/>
            <a:ext cx="6526080" cy="5313240"/>
          </a:xfrm>
          <a:prstGeom prst="rect">
            <a:avLst/>
          </a:prstGeom>
          <a:ln w="0">
            <a:noFill/>
          </a:ln>
        </p:spPr>
      </p:pic>
      <p:pic>
        <p:nvPicPr>
          <p:cNvPr id="144" name="Genova" descr=""/>
          <p:cNvPicPr/>
          <p:nvPr/>
        </p:nvPicPr>
        <p:blipFill>
          <a:blip r:embed="rId2"/>
          <a:stretch/>
        </p:blipFill>
        <p:spPr>
          <a:xfrm>
            <a:off x="1766880" y="668160"/>
            <a:ext cx="6554880" cy="5335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3844800" y="2066760"/>
            <a:ext cx="665280" cy="400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82840" y="2959200"/>
            <a:ext cx="665280" cy="399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Acquasanta_viaduct" descr=""/>
          <p:cNvPicPr/>
          <p:nvPr/>
        </p:nvPicPr>
        <p:blipFill>
          <a:blip r:embed="rId3"/>
          <a:stretch/>
        </p:blipFill>
        <p:spPr>
          <a:xfrm>
            <a:off x="1754280" y="669960"/>
            <a:ext cx="6554520" cy="5335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48" name="Acquasanta_viaduct_photo" descr=""/>
          <p:cNvPicPr/>
          <p:nvPr/>
        </p:nvPicPr>
        <p:blipFill>
          <a:blip r:embed="rId4"/>
          <a:stretch/>
        </p:blipFill>
        <p:spPr>
          <a:xfrm>
            <a:off x="1336680" y="3354480"/>
            <a:ext cx="7202520" cy="3313080"/>
          </a:xfrm>
          <a:prstGeom prst="rect">
            <a:avLst/>
          </a:prstGeom>
          <a:ln w="0">
            <a:noFill/>
          </a:ln>
        </p:spPr>
      </p:pic>
      <p:pic>
        <p:nvPicPr>
          <p:cNvPr id="149" name="Acquasanta_viaduct_mesh" descr=""/>
          <p:cNvPicPr/>
          <p:nvPr/>
        </p:nvPicPr>
        <p:blipFill>
          <a:blip r:embed="rId5"/>
          <a:stretch/>
        </p:blipFill>
        <p:spPr>
          <a:xfrm>
            <a:off x="1332000" y="3351240"/>
            <a:ext cx="7218360" cy="330372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3537000" y="3049560"/>
            <a:ext cx="1841400" cy="163440"/>
            <a:chOff x="3537000" y="3049560"/>
            <a:chExt cx="1841400" cy="163440"/>
          </a:xfrm>
        </p:grpSpPr>
        <p:sp>
          <p:nvSpPr>
            <p:cNvPr id="151" name=""/>
            <p:cNvSpPr/>
            <p:nvPr/>
          </p:nvSpPr>
          <p:spPr>
            <a:xfrm>
              <a:off x="3537000" y="3049560"/>
              <a:ext cx="1841400" cy="163440"/>
            </a:xfrm>
            <a:custGeom>
              <a:avLst/>
              <a:gdLst/>
              <a:ahLst/>
              <a:rect l="l" t="t" r="r" b="b"/>
              <a:pathLst>
                <a:path w="1160" h="103">
                  <a:moveTo>
                    <a:pt x="0" y="31"/>
                  </a:moveTo>
                  <a:cubicBezTo>
                    <a:pt x="64" y="23"/>
                    <a:pt x="128" y="15"/>
                    <a:pt x="180" y="11"/>
                  </a:cubicBezTo>
                  <a:cubicBezTo>
                    <a:pt x="232" y="7"/>
                    <a:pt x="257" y="8"/>
                    <a:pt x="312" y="7"/>
                  </a:cubicBezTo>
                  <a:cubicBezTo>
                    <a:pt x="367" y="6"/>
                    <a:pt x="433" y="0"/>
                    <a:pt x="508" y="3"/>
                  </a:cubicBezTo>
                  <a:cubicBezTo>
                    <a:pt x="583" y="6"/>
                    <a:pt x="683" y="14"/>
                    <a:pt x="764" y="23"/>
                  </a:cubicBezTo>
                  <a:cubicBezTo>
                    <a:pt x="845" y="32"/>
                    <a:pt x="930" y="46"/>
                    <a:pt x="996" y="59"/>
                  </a:cubicBezTo>
                  <a:cubicBezTo>
                    <a:pt x="1062" y="72"/>
                    <a:pt x="1111" y="87"/>
                    <a:pt x="1160" y="103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67360" y="3057480"/>
              <a:ext cx="0" cy="42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62400" y="3062160"/>
              <a:ext cx="0" cy="42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34040" y="3067200"/>
              <a:ext cx="0" cy="42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95960" y="3067200"/>
              <a:ext cx="2880" cy="58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57880" y="3067200"/>
              <a:ext cx="1440" cy="61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29160" y="3071880"/>
              <a:ext cx="0" cy="75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05480" y="3081240"/>
              <a:ext cx="0" cy="76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07000" y="3090960"/>
              <a:ext cx="0" cy="75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00600" y="3092400"/>
              <a:ext cx="1440" cy="61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08600" y="3117960"/>
              <a:ext cx="0" cy="42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744000" y="262584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ailway 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afa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16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omic Sans MS"/>
              </a:rPr>
              <a:t>Wave propagation in 2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01800" y="577800"/>
            <a:ext cx="4771800" cy="2897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438800" y="3511440"/>
            <a:ext cx="4530600" cy="27511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65200" y="3909960"/>
            <a:ext cx="4040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900" spc="-1" strike="noStrike">
                <a:solidFill>
                  <a:srgbClr val="000000"/>
                </a:solidFill>
                <a:latin typeface="Comic Sans MS"/>
              </a:rPr>
              <a:t>“ </a:t>
            </a:r>
            <a:r>
              <a:rPr b="0" i="1" lang="de-DE" sz="1900" spc="-1" strike="noStrike">
                <a:solidFill>
                  <a:srgbClr val="000000"/>
                </a:solidFill>
                <a:latin typeface="Comic Sans MS"/>
              </a:rPr>
              <a:t>Site effects “ &amp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900" spc="-1" strike="noStrike">
                <a:solidFill>
                  <a:srgbClr val="000000"/>
                </a:solidFill>
                <a:latin typeface="Comic Sans MS"/>
              </a:rPr>
              <a:t>“ </a:t>
            </a:r>
            <a:r>
              <a:rPr b="0" i="1" lang="de-DE" sz="1900" spc="-1" strike="noStrike">
                <a:solidFill>
                  <a:srgbClr val="000000"/>
                </a:solidFill>
                <a:latin typeface="Comic Sans MS"/>
              </a:rPr>
              <a:t>Soil Structures Interactions “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625320"/>
            <a:ext cx="293868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de-DE" sz="2000" spc="-1" strike="noStrike">
                <a:solidFill>
                  <a:srgbClr val="000000"/>
                </a:solidFill>
                <a:latin typeface="Comic Sans MS"/>
              </a:rPr>
              <a:t>Source“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Comic Sans MS"/>
              </a:rPr>
              <a:t>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Comic Sans MS"/>
              </a:rPr>
              <a:t>“ </a:t>
            </a:r>
            <a:r>
              <a:rPr b="0" i="1" lang="de-DE" sz="2000" spc="-1" strike="noStrike">
                <a:solidFill>
                  <a:srgbClr val="000000"/>
                </a:solidFill>
                <a:latin typeface="Comic Sans MS"/>
              </a:rPr>
              <a:t>Deep propagation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mesh1" descr=""/>
          <p:cNvPicPr/>
          <p:nvPr/>
        </p:nvPicPr>
        <p:blipFill>
          <a:blip r:embed="rId3"/>
          <a:stretch/>
        </p:blipFill>
        <p:spPr>
          <a:xfrm>
            <a:off x="5716440" y="2046240"/>
            <a:ext cx="3427560" cy="1170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flipV="1">
            <a:off x="6929280" y="2685600"/>
            <a:ext cx="195480" cy="366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15920" y="2662200"/>
            <a:ext cx="59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Comic Sans MS"/>
              </a:rPr>
              <a:t>Fa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mesh2" descr=""/>
          <p:cNvPicPr/>
          <p:nvPr/>
        </p:nvPicPr>
        <p:blipFill>
          <a:blip r:embed="rId4"/>
          <a:stretch/>
        </p:blipFill>
        <p:spPr>
          <a:xfrm>
            <a:off x="1003320" y="4541760"/>
            <a:ext cx="3290760" cy="169236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7226280" y="1979640"/>
            <a:ext cx="388800" cy="174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45200" y="165276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Comic Sans MS"/>
              </a:rPr>
              <a:t>z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89480" y="581328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Comic Sans MS"/>
              </a:rPr>
              <a:t>z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afa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61920" y="-3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omic Sans MS"/>
              </a:rPr>
              <a:t>Wave propagation in 3D complex do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170240" y="0"/>
            <a:ext cx="5702400" cy="3801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716360" y="2222640"/>
            <a:ext cx="1508400" cy="1436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9920" y="26989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756 m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532560" y="2590560"/>
            <a:ext cx="2590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980480" y="3124080"/>
            <a:ext cx="93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2160 m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4627080" y="761760"/>
            <a:ext cx="25560" cy="1244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44880" y="132732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891 m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126200" y="1952640"/>
            <a:ext cx="479520" cy="10206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57960" y="628560"/>
            <a:ext cx="874800" cy="5238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18360" y="1143000"/>
            <a:ext cx="369720" cy="8161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6846840" y="1940040"/>
            <a:ext cx="271440" cy="1008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859440" y="1126800"/>
            <a:ext cx="360360" cy="86364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138720" y="1703520"/>
            <a:ext cx="720720" cy="2872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138720" y="622080"/>
            <a:ext cx="216000" cy="10810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90560" y="113040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Comic Sans MS"/>
              </a:rPr>
              <a:t>Faul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17320" y="187956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Comic Sans MS"/>
              </a:rPr>
              <a:t>Faul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314360" y="463680"/>
            <a:ext cx="6237000" cy="1719000"/>
            <a:chOff x="1314360" y="463680"/>
            <a:chExt cx="6237000" cy="1719000"/>
          </a:xfrm>
        </p:grpSpPr>
        <p:sp>
          <p:nvSpPr>
            <p:cNvPr id="193" name=""/>
            <p:cNvSpPr/>
            <p:nvPr/>
          </p:nvSpPr>
          <p:spPr>
            <a:xfrm flipH="1" flipV="1">
              <a:off x="3874680" y="480600"/>
              <a:ext cx="3676680" cy="405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3830760" y="1330200"/>
              <a:ext cx="3697200" cy="84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1327320" y="463680"/>
              <a:ext cx="2543040" cy="17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3"/>
            <a:stretch/>
          </p:blipFill>
          <p:spPr>
            <a:xfrm>
              <a:off x="6904080" y="887400"/>
              <a:ext cx="6364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891480" y="892080"/>
              <a:ext cx="647640" cy="441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14360" y="463680"/>
              <a:ext cx="2543400" cy="1716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933480" y="2227320"/>
            <a:ext cx="3098880" cy="2289240"/>
            <a:chOff x="933480" y="2227320"/>
            <a:chExt cx="3098880" cy="2289240"/>
          </a:xfrm>
        </p:grpSpPr>
        <p:pic>
          <p:nvPicPr>
            <p:cNvPr id="200" name="snapshot1" descr=""/>
            <p:cNvPicPr/>
            <p:nvPr/>
          </p:nvPicPr>
          <p:blipFill>
            <a:blip r:embed="rId4"/>
            <a:stretch/>
          </p:blipFill>
          <p:spPr>
            <a:xfrm>
              <a:off x="933480" y="2227320"/>
              <a:ext cx="3098880" cy="22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220040" y="3367080"/>
              <a:ext cx="90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0000"/>
                  </a:solidFill>
                  <a:latin typeface="Comic Sans MS"/>
                </a:rPr>
                <a:t>T = 0.5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476440" y="3014640"/>
            <a:ext cx="3098880" cy="2289240"/>
            <a:chOff x="2476440" y="3014640"/>
            <a:chExt cx="3098880" cy="2289240"/>
          </a:xfrm>
        </p:grpSpPr>
        <p:pic>
          <p:nvPicPr>
            <p:cNvPr id="203" name="snapshot2" descr=""/>
            <p:cNvPicPr/>
            <p:nvPr/>
          </p:nvPicPr>
          <p:blipFill>
            <a:blip r:embed="rId5"/>
            <a:stretch/>
          </p:blipFill>
          <p:spPr>
            <a:xfrm>
              <a:off x="2476440" y="3014640"/>
              <a:ext cx="3098880" cy="22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859840" y="4145040"/>
              <a:ext cx="90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0000"/>
                  </a:solidFill>
                  <a:latin typeface="Comic Sans MS"/>
                </a:rPr>
                <a:t>T = 1.0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051440" y="3654360"/>
            <a:ext cx="3144600" cy="2333520"/>
            <a:chOff x="4051440" y="3654360"/>
            <a:chExt cx="3144600" cy="2333520"/>
          </a:xfrm>
        </p:grpSpPr>
        <p:pic>
          <p:nvPicPr>
            <p:cNvPr id="206" name="snapshot3" descr=""/>
            <p:cNvPicPr/>
            <p:nvPr/>
          </p:nvPicPr>
          <p:blipFill>
            <a:blip r:embed="rId6"/>
            <a:stretch/>
          </p:blipFill>
          <p:spPr>
            <a:xfrm>
              <a:off x="4051440" y="3654360"/>
              <a:ext cx="3144600" cy="23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502880" y="4923000"/>
              <a:ext cx="90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0000"/>
                  </a:solidFill>
                  <a:latin typeface="Comic Sans MS"/>
                </a:rPr>
                <a:t>T = 1.5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045120" y="4183200"/>
            <a:ext cx="3098880" cy="2288880"/>
            <a:chOff x="6045120" y="4183200"/>
            <a:chExt cx="3098880" cy="2288880"/>
          </a:xfrm>
        </p:grpSpPr>
        <p:pic>
          <p:nvPicPr>
            <p:cNvPr id="209" name="snapshot4" descr=""/>
            <p:cNvPicPr/>
            <p:nvPr/>
          </p:nvPicPr>
          <p:blipFill>
            <a:blip r:embed="rId7"/>
            <a:stretch/>
          </p:blipFill>
          <p:spPr>
            <a:xfrm>
              <a:off x="6045120" y="4183200"/>
              <a:ext cx="3098880" cy="22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499800" y="5425920"/>
              <a:ext cx="90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0000"/>
                  </a:solidFill>
                  <a:latin typeface="Comic Sans MS"/>
                </a:rPr>
                <a:t>T = 2.0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089000" y="5284800"/>
            <a:ext cx="345132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Comic Sans MS"/>
              </a:rPr>
              <a:t>Snapshots of Dis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afa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874800" y="938160"/>
            <a:ext cx="8300880" cy="3587760"/>
            <a:chOff x="874800" y="938160"/>
            <a:chExt cx="8300880" cy="3587760"/>
          </a:xfrm>
        </p:grpSpPr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874800" y="2079360"/>
              <a:ext cx="8267760" cy="19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874800" y="4159080"/>
              <a:ext cx="826776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645440" y="415764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00"/>
                  </a:solidFill>
                  <a:latin typeface="Arial"/>
                </a:rPr>
                <a:t>500 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42160" y="938160"/>
              <a:ext cx="1616400" cy="11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ffff00"/>
                  </a:solidFill>
                  <a:latin typeface="Arial"/>
                </a:rPr>
                <a:t>Alluvial valley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1" i="1" lang="de-DE" sz="1600" spc="-1" strike="noStrike" baseline="-25000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1" i="1" lang="de-DE" sz="1600" spc="-1" strike="noStrike">
                  <a:solidFill>
                    <a:srgbClr val="ffff00"/>
                  </a:solidFill>
                  <a:latin typeface="Arial"/>
                </a:rPr>
                <a:t> = 300 m/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1" i="1" lang="de-DE" sz="1600" spc="-1" strike="noStrike" baseline="-25000">
                  <a:solidFill>
                    <a:srgbClr val="ffff00"/>
                  </a:solidFill>
                  <a:latin typeface="Arial"/>
                </a:rPr>
                <a:t>S</a:t>
              </a:r>
              <a:r>
                <a:rPr b="1" i="1" lang="de-DE" sz="1600" spc="-1" strike="noStrike">
                  <a:solidFill>
                    <a:srgbClr val="ffff00"/>
                  </a:solidFill>
                  <a:latin typeface="Arial"/>
                </a:rPr>
                <a:t> = 150 m/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</a:t>
              </a:r>
              <a:r>
                <a:rPr b="1" i="1" lang="de-DE" sz="16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i="1" lang="de-DE" sz="1600" spc="-1" strike="noStrike">
                  <a:solidFill>
                    <a:srgbClr val="ffff00"/>
                  </a:solidFill>
                  <a:latin typeface="Arial"/>
                </a:rPr>
                <a:t>= 1800 kg/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65560" y="938160"/>
              <a:ext cx="1616400" cy="11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ff0000"/>
                  </a:solidFill>
                  <a:latin typeface="Arial"/>
                </a:rPr>
                <a:t>Bedrock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1" i="1" lang="de-DE" sz="1600" spc="-1" strike="noStrike" baseline="-25000">
                  <a:solidFill>
                    <a:srgbClr val="ff0000"/>
                  </a:solidFill>
                  <a:latin typeface="Arial"/>
                </a:rPr>
                <a:t>P</a:t>
              </a:r>
              <a:r>
                <a:rPr b="1" i="1" lang="de-DE" sz="1600" spc="-1" strike="noStrike">
                  <a:solidFill>
                    <a:srgbClr val="ff0000"/>
                  </a:solidFill>
                  <a:latin typeface="Arial"/>
                </a:rPr>
                <a:t> = 1000 m/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1" i="1" lang="de-DE" sz="1600" spc="-1" strike="noStrike" baseline="-25000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i="1" lang="de-DE" sz="1600" spc="-1" strike="noStrike">
                  <a:solidFill>
                    <a:srgbClr val="ff0000"/>
                  </a:solidFill>
                  <a:latin typeface="Arial"/>
                </a:rPr>
                <a:t> =</a:t>
              </a:r>
              <a:r>
                <a:rPr b="0" i="1" lang="de-DE" sz="1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de-DE" sz="1600" spc="-1" strike="noStrike">
                  <a:solidFill>
                    <a:srgbClr val="ff0000"/>
                  </a:solidFill>
                  <a:latin typeface="Arial"/>
                </a:rPr>
                <a:t>600 m/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de-DE" sz="1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de-DE" sz="1600" spc="-1" strike="noStrike">
                  <a:solidFill>
                    <a:srgbClr val="ff0000"/>
                  </a:solidFill>
                  <a:latin typeface="Arial"/>
                </a:rPr>
                <a:t>= 2500 kg/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6200000">
              <a:off x="8697240" y="291348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00"/>
                  </a:solidFill>
                  <a:latin typeface="Arial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932040" y="2664360"/>
              <a:ext cx="12960" cy="1193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53640" y="3832560"/>
              <a:ext cx="8188920" cy="39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9960" y="383832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00"/>
                  </a:solidFill>
                  <a:latin typeface="Arial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45560" y="2161440"/>
              <a:ext cx="3125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08800" y="19015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00"/>
                  </a:solidFill>
                  <a:latin typeface="Arial"/>
                </a:rPr>
                <a:t>90 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5008680" y="2676960"/>
              <a:ext cx="0" cy="497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73920" y="27410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15 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086760" y="2666160"/>
              <a:ext cx="12960" cy="11660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733680" y="291348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00"/>
                  </a:solidFill>
                  <a:latin typeface="Arial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921120" y="4854600"/>
            <a:ext cx="23432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ff3399"/>
                </a:solidFill>
                <a:latin typeface="Arial"/>
              </a:rPr>
              <a:t>Plane wave shear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ff3399"/>
                </a:solidFill>
                <a:latin typeface="Arial"/>
              </a:rPr>
              <a:t>(a</a:t>
            </a:r>
            <a:r>
              <a:rPr b="1" i="1" lang="de-DE" sz="1600" spc="-1" strike="noStrike" baseline="-25000">
                <a:solidFill>
                  <a:srgbClr val="ff3399"/>
                </a:solidFill>
                <a:latin typeface="Arial"/>
              </a:rPr>
              <a:t>max </a:t>
            </a:r>
            <a:r>
              <a:rPr b="1" i="1" lang="de-DE" sz="1600" spc="-1" strike="noStrike">
                <a:solidFill>
                  <a:srgbClr val="ff3399"/>
                </a:solidFill>
                <a:latin typeface="Arial"/>
              </a:rPr>
              <a:t>= 1.5 m/s</a:t>
            </a:r>
            <a:r>
              <a:rPr b="1" i="1" lang="de-DE" sz="1600" spc="-1" strike="noStrike" baseline="30000">
                <a:solidFill>
                  <a:srgbClr val="ff3399"/>
                </a:solidFill>
                <a:latin typeface="Arial"/>
              </a:rPr>
              <a:t>2</a:t>
            </a:r>
            <a:r>
              <a:rPr b="1" i="1" lang="de-DE" sz="16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038320" y="4681440"/>
            <a:ext cx="5068800" cy="17636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omic Sans MS"/>
              </a:rPr>
              <a:t>Non linear constitutive mod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time_history" descr=""/>
          <p:cNvPicPr/>
          <p:nvPr/>
        </p:nvPicPr>
        <p:blipFill>
          <a:blip r:embed="rId3"/>
          <a:stretch/>
        </p:blipFill>
        <p:spPr>
          <a:xfrm>
            <a:off x="2031840" y="4667400"/>
            <a:ext cx="5112000" cy="18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afa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-27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omic Sans MS"/>
              </a:rPr>
              <a:t>Non linear constitutive mod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211400" y="695160"/>
            <a:ext cx="7542000" cy="502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afa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01680" y="960480"/>
            <a:ext cx="794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velopment 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of new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umerical methods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computational wave propa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ve propagation in complex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ybrid approaches (combination of various metho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14360" y="193680"/>
            <a:ext cx="7359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Numeric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01680" y="4160880"/>
            <a:ext cx="794232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mputational algorithms for the geo-scientific 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munity 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computational wave propa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Training materials on numerical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r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ag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nd a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vailability of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ynthetic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14360" y="3394080"/>
            <a:ext cx="7359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Digital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afa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68360" y="1285920"/>
            <a:ext cx="3051360" cy="579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Sudelfeld</a:t>
            </a: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, 1</a:t>
            </a:r>
            <a:r>
              <a:rPr b="1" lang="de-DE" sz="1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14360" y="193680"/>
            <a:ext cx="7359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Mee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8920" y="159552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32360" y="1293840"/>
            <a:ext cx="2108160" cy="579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Draft for „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Code</a:t>
            </a: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recomandation</a:t>
            </a: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images" descr=""/>
          <p:cNvPicPr/>
          <p:nvPr/>
        </p:nvPicPr>
        <p:blipFill>
          <a:blip r:embed="rId1"/>
          <a:stretch/>
        </p:blipFill>
        <p:spPr>
          <a:xfrm>
            <a:off x="8048520" y="1274760"/>
            <a:ext cx="608040" cy="608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45960" y="839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44880" y="140004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Aug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21000" y="4143240"/>
            <a:ext cx="3051000" cy="579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Munich, 18-20 Jul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51560" y="445284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5000" y="4151160"/>
            <a:ext cx="2108160" cy="579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Symposium: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30 partecipants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15 presen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98600" y="28209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27760" y="4257720"/>
            <a:ext cx="4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thumb" descr=""/>
          <p:cNvPicPr/>
          <p:nvPr/>
        </p:nvPicPr>
        <p:blipFill>
          <a:blip r:embed="rId2"/>
          <a:stretch/>
        </p:blipFill>
        <p:spPr>
          <a:xfrm>
            <a:off x="8172360" y="4172040"/>
            <a:ext cx="895320" cy="544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76640" y="1976400"/>
            <a:ext cx="3051000" cy="579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San Francisco, AGU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07200" y="2286000"/>
            <a:ext cx="40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40280" y="1984320"/>
            <a:ext cx="2108160" cy="579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Special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Focus Session on Cyberinfrastructure in the Earth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49920" y="2090880"/>
            <a:ext cx="9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Dec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AGU2004" descr=""/>
          <p:cNvPicPr/>
          <p:nvPr/>
        </p:nvPicPr>
        <p:blipFill>
          <a:blip r:embed="rId3"/>
          <a:stretch/>
        </p:blipFill>
        <p:spPr>
          <a:xfrm>
            <a:off x="8043840" y="1914480"/>
            <a:ext cx="615960" cy="803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38280" y="3352680"/>
            <a:ext cx="3051360" cy="579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CIG-IRIS Workshop on Computational Seism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8840" y="366228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02280" y="3360600"/>
            <a:ext cx="2108160" cy="579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Connection with C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35320" y="346716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J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CIG" descr=""/>
          <p:cNvPicPr/>
          <p:nvPr/>
        </p:nvPicPr>
        <p:blipFill>
          <a:blip r:embed="rId4"/>
          <a:stretch/>
        </p:blipFill>
        <p:spPr>
          <a:xfrm>
            <a:off x="8155080" y="3478320"/>
            <a:ext cx="988920" cy="284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438280" y="5029200"/>
            <a:ext cx="3051360" cy="579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Munich, meeting with Bratislava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840" y="533880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02280" y="5037120"/>
            <a:ext cx="2108160" cy="579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28840" y="51436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Octo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hurch" descr=""/>
          <p:cNvPicPr/>
          <p:nvPr/>
        </p:nvPicPr>
        <p:blipFill>
          <a:blip r:embed="rId5"/>
          <a:stretch/>
        </p:blipFill>
        <p:spPr>
          <a:xfrm>
            <a:off x="8153280" y="5029200"/>
            <a:ext cx="898560" cy="65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afa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14360" y="193680"/>
            <a:ext cx="7359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Numeric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84400" y="1195560"/>
            <a:ext cx="7567560" cy="470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95360" y="1538280"/>
            <a:ext cx="3976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ADER-DG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SEM: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Triangular me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Non linear materials behavi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???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Analytical So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afa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spice1" descr=""/>
          <p:cNvPicPr/>
          <p:nvPr/>
        </p:nvPicPr>
        <p:blipFill>
          <a:blip r:embed="rId1"/>
          <a:stretch/>
        </p:blipFill>
        <p:spPr>
          <a:xfrm>
            <a:off x="1211400" y="1265400"/>
            <a:ext cx="7642080" cy="4373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314360" y="193680"/>
            <a:ext cx="7359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Digital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afa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spice1" descr=""/>
          <p:cNvPicPr/>
          <p:nvPr/>
        </p:nvPicPr>
        <p:blipFill>
          <a:blip r:embed="rId1"/>
          <a:stretch/>
        </p:blipFill>
        <p:spPr>
          <a:xfrm>
            <a:off x="1211400" y="1265400"/>
            <a:ext cx="7642080" cy="4373280"/>
          </a:xfrm>
          <a:prstGeom prst="rect">
            <a:avLst/>
          </a:prstGeom>
          <a:ln w="0">
            <a:noFill/>
          </a:ln>
        </p:spPr>
      </p:pic>
      <p:pic>
        <p:nvPicPr>
          <p:cNvPr id="82" name="spice2" descr=""/>
          <p:cNvPicPr/>
          <p:nvPr/>
        </p:nvPicPr>
        <p:blipFill>
          <a:blip r:embed="rId2"/>
          <a:stretch/>
        </p:blipFill>
        <p:spPr>
          <a:xfrm>
            <a:off x="1211400" y="1263600"/>
            <a:ext cx="7632720" cy="4368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25760" y="1989000"/>
            <a:ext cx="435240" cy="3049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7960" y="2170080"/>
            <a:ext cx="434880" cy="3049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14360" y="193680"/>
            <a:ext cx="7359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Digital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afa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84400" y="1195560"/>
            <a:ext cx="7567560" cy="470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06600" y="1538280"/>
            <a:ext cx="289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eneral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ave propa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ynamic rup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isu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rid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ode level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Language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tran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tran90/95 or l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23160" y="1501920"/>
            <a:ext cx="3876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Method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inite differences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(6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nite volume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nite element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pectral elements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(2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seudospectral metho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d (1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Boundary element method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y theory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mal modes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(1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flectivity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Anality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or Quasi-analytical 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14360" y="193680"/>
            <a:ext cx="7359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Digital Library: </a:t>
            </a:r>
            <a:r>
              <a:rPr b="1" lang="de-DE" sz="2800" spc="-1" strike="noStrike">
                <a:solidFill>
                  <a:srgbClr val="ff0000"/>
                </a:solidFill>
                <a:latin typeface="Comic Sans MS"/>
              </a:rPr>
              <a:t>availabl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afa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spice1" descr=""/>
          <p:cNvPicPr/>
          <p:nvPr/>
        </p:nvPicPr>
        <p:blipFill>
          <a:blip r:embed="rId1"/>
          <a:stretch/>
        </p:blipFill>
        <p:spPr>
          <a:xfrm>
            <a:off x="1211400" y="1265400"/>
            <a:ext cx="7642080" cy="4373280"/>
          </a:xfrm>
          <a:prstGeom prst="rect">
            <a:avLst/>
          </a:prstGeom>
          <a:ln w="0">
            <a:noFill/>
          </a:ln>
        </p:spPr>
      </p:pic>
      <p:pic>
        <p:nvPicPr>
          <p:cNvPr id="91" name="spice2" descr=""/>
          <p:cNvPicPr/>
          <p:nvPr/>
        </p:nvPicPr>
        <p:blipFill>
          <a:blip r:embed="rId2"/>
          <a:stretch/>
        </p:blipFill>
        <p:spPr>
          <a:xfrm>
            <a:off x="1211400" y="1263600"/>
            <a:ext cx="7632720" cy="4368960"/>
          </a:xfrm>
          <a:prstGeom prst="rect">
            <a:avLst/>
          </a:prstGeom>
          <a:ln w="0">
            <a:noFill/>
          </a:ln>
        </p:spPr>
      </p:pic>
      <p:pic>
        <p:nvPicPr>
          <p:cNvPr id="92" name="spice_workshop1" descr=""/>
          <p:cNvPicPr/>
          <p:nvPr/>
        </p:nvPicPr>
        <p:blipFill>
          <a:blip r:embed="rId3"/>
          <a:stretch/>
        </p:blipFill>
        <p:spPr>
          <a:xfrm>
            <a:off x="1222200" y="1265400"/>
            <a:ext cx="7632720" cy="4367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27200" y="1989000"/>
            <a:ext cx="435240" cy="3049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43120" y="2149560"/>
            <a:ext cx="434880" cy="3045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63600" y="2308320"/>
            <a:ext cx="434880" cy="3045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14360" y="193680"/>
            <a:ext cx="7359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Digital Library: </a:t>
            </a:r>
            <a:r>
              <a:rPr b="1" lang="de-DE" sz="2800" spc="-1" strike="noStrike">
                <a:solidFill>
                  <a:srgbClr val="ff0000"/>
                </a:solidFill>
                <a:latin typeface="Comic Sans MS"/>
              </a:rPr>
              <a:t>training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afa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14360" y="193680"/>
            <a:ext cx="7359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Digital Library: </a:t>
            </a:r>
            <a:r>
              <a:rPr b="1" lang="de-DE" sz="2800" spc="-1" strike="noStrike">
                <a:solidFill>
                  <a:srgbClr val="ff0000"/>
                </a:solidFill>
                <a:latin typeface="Comic Sans MS"/>
              </a:rPr>
              <a:t>training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electure" descr=""/>
          <p:cNvPicPr/>
          <p:nvPr/>
        </p:nvPicPr>
        <p:blipFill>
          <a:blip r:embed="rId1"/>
          <a:stretch/>
        </p:blipFill>
        <p:spPr>
          <a:xfrm>
            <a:off x="1436760" y="1249200"/>
            <a:ext cx="7135920" cy="4278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20:15:33Z</dcterms:created>
  <dc:creator>Prof. Dr.  Heiner Igel</dc:creator>
  <dc:description/>
  <dc:language>en-US</dc:language>
  <cp:lastModifiedBy>Geophysik</cp:lastModifiedBy>
  <dcterms:modified xsi:type="dcterms:W3CDTF">2006-02-12T22:53:54Z</dcterms:modified>
  <cp:revision>147</cp:revision>
  <dc:subject/>
  <dc:title>Internationales Qualitäts-Netz: Georisiken</dc:title>
</cp:coreProperties>
</file>